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1207-D4B1-413A-8A18-3068EF0F4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495C-ED11-4D4E-8956-070D4F243A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9CD-2552-4A69-9A74-F48F9001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FEA-D55B-4291-AE86-540E10AB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7AA43-C3D5-4EAC-9512-46D2F39B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00E00-8E4F-4DBA-89BD-DE9144B3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4917E-2C9A-426B-9F8F-10300A2F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4F877-780F-4900-9413-F1104B5D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69076-4046-4204-9903-AEF5D004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ACE0B-070D-4C45-BF68-989C6E61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8002D-2C2C-453D-A0E5-2BD98E5A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927E2-9AA2-4F7C-926C-4E91B631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8A8F4-D91D-42B7-87A5-523CFC41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DA1BB-F53B-4875-845E-68937870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ADC-63AD-4942-8C0F-815CC82D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3B8B6-D764-4593-9F9F-55B8E9F6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C1BDD-0BFD-4827-B4C6-8EEB6A0B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B71EB-DF18-4E41-8317-EEDFDCB0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C6473-64D8-4840-B18C-09EBC189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6C55E-F34B-48C5-B444-D881F2FB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4B3E8-B76B-45C2-897E-144F3CC2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1B645-8A6C-404E-8BC0-491F98E9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42466-D10E-4F6C-BD34-CA1912E4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E6D49-2A82-4BF4-ABF5-769723D7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2875A-B8A1-4E89-BB78-2FB90383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A57-579A-4ACE-A2A6-A5788CDB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0F098-84A9-4C82-8CED-F3EAC5B2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51E0-3387-4209-AF88-8DFFCE6D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FD0C-D90E-45DB-8C34-2133D6BA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FB85-0CBB-42DA-8B37-7458321E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8992-9479-4F95-A4FE-D3789558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F2EF-616B-4D8C-9C66-E3C50F31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6A47-E627-49ED-AFFF-3AA0A51D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6A98-19B0-402B-87DC-54CFBE4F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D35-A226-44B5-9D0E-9991CE02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6BD4-A7F8-4F8D-B070-7B942C1F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9E41-D468-45F9-A533-85E94E5C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0124-E824-48F2-9D50-305D14AA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05C4-7DFE-4C71-A675-2E501631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0E2C-6ED2-4D6C-89AC-782DFC14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A155-1BF3-40B5-9D2D-22417253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574F5-A747-40C7-B17F-683176ED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F94C9-E4B6-46A1-A829-5986F276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00A4-2A3A-4072-BC65-7E913786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C14C7-38DF-4952-B6F2-A51B62BC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5F8-BC4C-4C25-9653-70C4C7C2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81ED2-FBA8-4EB8-8A5F-34926033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D0497-8070-4E49-AC2E-1DFDE467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1A82A-94C6-4F8C-BB9F-CBAEB8F1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69348-ED2F-4C83-85E7-B1955EDC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1EF7D-8192-4D9F-8455-7C7BBE39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E48BD-2191-40CA-9258-25E52333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E36AE-18FF-445E-A46E-75A10351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15677-E492-4080-81AB-A82FC90C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C8667-FFD5-4384-98D3-F26B7A87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E81ED-573A-4ED1-8799-A83B3F7F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FD3-7E19-4CF7-8D23-ED7BF25E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1C2AF-5A18-449D-941E-84B73C53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19F6F-19C7-4676-A252-4650CAB3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342B7-A87F-450C-A2DF-7B8A8F63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56A8A-3D16-4DFE-80F9-3326622F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2AE92-7F87-4B0C-A5FC-3BB42660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0CC1E-1582-4E1C-BAA6-13950BDF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810AF-EBF9-4F49-B31C-A2B6925F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F7F25-21D7-4FC0-8F8D-2AF394E9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98CE6-132D-457F-A7DF-3802931A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4122B-F57E-4E02-B8DF-9B454DBF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1FE-C8CB-4D67-8AA0-A384F60A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67481-FAE0-49C9-B17F-20593F40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3227A-2784-4F4A-9D33-81966301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EEAE7-82EF-4ED6-A8A1-40C96C49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A8354-E84E-47EE-833E-18921675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874FB-8C72-41EE-AE5C-FBE51768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24A84-49CC-49F8-9638-BBBA8224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2B388-5EAF-4264-80CD-7150BB3A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06606-67EC-4962-976F-D9EEDCF9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D5643-F2F3-4474-B828-437DA8A6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F7719-7821-45FC-AE28-685680C3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1EDD-CB13-47BD-88BC-D3231F41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1D8DE-FEFB-41E3-A35E-0FCE5B72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5B76E-B848-49D6-B833-488ADE32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9C88C-B3BA-424B-8D3B-F0263D86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C8411-6DDA-42CF-A972-150BF19E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60813-D4FC-4F7F-9FE6-8F248EC1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8020B-1E3F-4D98-9BB8-E831C8C2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AC94B-007D-4C75-ADE1-0EF7BAE7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BD344-2FA9-491A-95E0-65ACC9DF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DA694-5909-42B7-AD36-AC39D956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6D274-E74E-48E6-A385-D7EE3A13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268-2860-49C9-AE98-FD5AEDF9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EC4F9-04E1-401A-85EF-6BBA3126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829EF-631E-48DF-8908-746DA788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DA4CD-17C4-466F-944D-45AF4D02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EBF91-FEB6-47C7-9075-BA2898C0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1506D-3339-4669-9CE3-40C28159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22346-362A-4B73-8203-0EFB6488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475F4-97F5-42EF-AFA5-737AD03F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068C1-E2B6-4765-80B3-FBE1763C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CE9BE-E6C6-4680-9AFF-420309CC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22AC0-36BC-4D27-ACD5-1DD70767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6F4-34FB-4993-B18C-A810146F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9C95D-DB46-4F1E-864C-CC33D423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7B135-C76A-46A0-AD04-064551D6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F80DA-F44A-41AF-BAB6-31CE3EBB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D639D-6445-44DF-A0AC-E3342F96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93094-5766-4033-A433-BA35770F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6AE86-C381-44DC-89A3-EFDF791A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47638-773A-4D39-9712-4909E34A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60BE9-6472-406E-B265-F98A658B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23EC4-2FAE-44BC-889B-CAEA06A3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A0BF6-259E-446E-BFCE-AA348ADB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92C-5E9A-4C5D-8CD8-D2CBD659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FDBCE-E541-44E5-B6C4-D381A563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A5199-82C1-432B-A6A6-C390272F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4D036-5224-478C-ABB0-891C61FE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3336C-569C-4885-A6DB-F5D523F3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FB6CA-A9DA-45FB-9E25-A908BC29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771D2-A43D-459F-AFA1-858A5B37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8E993-250A-487E-A086-9E974885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80423-3F0D-475C-88B8-9223BD3C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745EF-17FA-48EC-97E5-8A6E895A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56433-917B-4DA7-A520-2EAB8730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2005-FD7E-4C28-B276-87EE1BD5D031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857E-27BE-4A59-AB7B-7FC26EB2DC01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3802-44FF-4416-A3BC-B01DA8C56F1A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B37B-97B2-46EC-8C34-1F12FB9EBAB5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647C-9A01-495D-821B-06A9D5FA0B31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5B93-EE75-44DB-A8B2-D77011AC224D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852A-53ED-44FC-9EE1-05415A60D906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B31B-6584-4A2D-99C5-3DA06E1F7F78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3D4F-D49C-4B15-9A73-3A488EA1AEB0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B424-78DC-4261-9651-1DD5DC025E9C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h5mJbP23Buo&amp;list=PLwL0Myd7Dk1HK8gH2XIafNgQJD1dMX2aW&amp;index=4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qSrmeiWsuc&amp;list=PLwL0Myd7Dk1HK8gH2XIafNgQJD1dMX2aW&amp;index=2" TargetMode="External"/><Relationship Id="rId2" Type="http://schemas.openxmlformats.org/officeDocument/2006/relationships/hyperlink" Target="https://www.youtube.com/watch?v=0Elo-zX1k8M&amp;list=PLwL0Myd7Dk1HK8gH2XIafNgQJD1dMX2aW&amp;index=3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d0d0d"/>
                </a:solidFill>
                <a:latin typeface="Tw Cen MT Condensed"/>
              </a:rPr>
              <a:t>Protein Synthesis</a:t>
            </a:r>
            <a:endParaRPr b="0" lang="en-US" sz="5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BL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rotein Structur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7880" y="2286000"/>
            <a:ext cx="3565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up of amino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ade4"/>
                </a:solidFill>
                <a:latin typeface="Calibri"/>
              </a:rPr>
              <a:t>Polypepti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string of amino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 amino acids are arranged in different orders to make a variety of prote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mbled on a </a:t>
            </a:r>
            <a:r>
              <a:rPr b="0" lang="en-US" sz="2400" spc="-1" strike="noStrike">
                <a:solidFill>
                  <a:srgbClr val="1cade4"/>
                </a:solidFill>
                <a:latin typeface="Calibri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Content Placeholder 4" descr=""/>
          <p:cNvPicPr/>
          <p:nvPr/>
        </p:nvPicPr>
        <p:blipFill>
          <a:blip r:embed="rId1"/>
          <a:stretch/>
        </p:blipFill>
        <p:spPr>
          <a:xfrm>
            <a:off x="4492800" y="2819520"/>
            <a:ext cx="431640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1"/>
          <a:stretch/>
        </p:blipFill>
        <p:spPr>
          <a:xfrm>
            <a:off x="762120" y="728640"/>
            <a:ext cx="76960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ranscription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767880" y="1905120"/>
            <a:ext cx="3565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R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NA unwinds, RNA polymerase attaches and adds RNA nucleotides to form base pairs with 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-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-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ade4"/>
                </a:solidFill>
                <a:latin typeface="Calibri"/>
              </a:rPr>
              <a:t>mRNA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NA that results from the process of tran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Content Placeholder 3" descr=""/>
          <p:cNvPicPr/>
          <p:nvPr/>
        </p:nvPicPr>
        <p:blipFill>
          <a:blip r:embed="rId1"/>
          <a:srcRect l="0" t="0" r="0" b="10157"/>
          <a:stretch/>
        </p:blipFill>
        <p:spPr>
          <a:xfrm>
            <a:off x="4800600" y="3016080"/>
            <a:ext cx="4113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RANSCRIPTI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685800" y="215892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NA-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C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C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G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G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GC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G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695160" y="39765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5b74"/>
                </a:solidFill>
                <a:latin typeface="Calibri"/>
                <a:ea typeface="Calibri"/>
              </a:rPr>
              <a:t>UG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1585800" y="3981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ade4"/>
                </a:solidFill>
                <a:latin typeface="Calibri"/>
                <a:ea typeface="Calibri"/>
              </a:rPr>
              <a:t>U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2433600" y="3962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ced7"/>
                </a:solidFill>
                <a:latin typeface="Calibri"/>
                <a:ea typeface="Calibri"/>
              </a:rPr>
              <a:t>GG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3352680" y="3962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  <a:ea typeface="Calibri"/>
              </a:rPr>
              <a:t>ACU</a:t>
            </a:r>
            <a:r>
              <a:rPr b="0" lang="is-IS" sz="32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Rectangle 1"/>
          <p:cNvSpPr/>
          <p:nvPr/>
        </p:nvSpPr>
        <p:spPr>
          <a:xfrm>
            <a:off x="734760" y="471168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-mR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Major players in transcripti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68240" y="2111040"/>
            <a:ext cx="7290000" cy="40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ade4"/>
                </a:solidFill>
                <a:latin typeface="Calibri"/>
              </a:rPr>
              <a:t>mRN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type of RNA that encodes information for the synthesis of proteins and carries it to a ribosome from the nucle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1"/>
          <a:stretch/>
        </p:blipFill>
        <p:spPr>
          <a:xfrm>
            <a:off x="1962000" y="3711600"/>
            <a:ext cx="49024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Major players in transcripti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768240" y="2084040"/>
            <a:ext cx="7290000" cy="40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ade4"/>
                </a:solidFill>
                <a:latin typeface="Calibri"/>
              </a:rPr>
              <a:t>RNA polymeras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complex of enzymes with 2 function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nwind DNA sequenc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duce primary transcript by stringing together the chain of RNA nucleotid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24031" r="0" b="29457"/>
          <a:stretch/>
        </p:blipFill>
        <p:spPr>
          <a:xfrm>
            <a:off x="1136520" y="4267080"/>
            <a:ext cx="6553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ranscription is done…what now?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768240" y="2057040"/>
            <a:ext cx="7290000" cy="40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w we have mature mRNA transcribed from the cell’s DNA.  It is leaving the nucleus through a nuclear pore.  Once in the cytoplasm, it finds a ribosome so that translation can begi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 know how mRNA is made, but how do we “read” the code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1371600" y="4419720"/>
            <a:ext cx="731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335b74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ranslati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7880" y="2286000"/>
            <a:ext cx="3565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stage of protein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RNA is read via the organelle, ribos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NA brings amino acids to the ribos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Content Placeholder 8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3974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9520" y="6854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RN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1"/>
          <a:srcRect l="42622" t="0" r="0" b="0"/>
          <a:stretch/>
        </p:blipFill>
        <p:spPr>
          <a:xfrm>
            <a:off x="1523880" y="1981080"/>
            <a:ext cx="2092320" cy="41911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91120" y="213372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 R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ound to one amino acid on one en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ade4"/>
                </a:solidFill>
                <a:latin typeface="Calibri"/>
              </a:rPr>
              <a:t>Anticod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n the other end complements mRNA cod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Line 5"/>
          <p:cNvSpPr/>
          <p:nvPr/>
        </p:nvSpPr>
        <p:spPr>
          <a:xfrm flipH="1">
            <a:off x="3200040" y="4191120"/>
            <a:ext cx="1066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6"/>
          <p:cNvSpPr/>
          <p:nvPr/>
        </p:nvSpPr>
        <p:spPr>
          <a:xfrm flipH="1" flipV="1">
            <a:off x="3047760" y="23623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RNA Functi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68240" y="1980720"/>
            <a:ext cx="7290000" cy="402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o acids must be in the correct order for the protein to function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NA lines up amino acids using mRNA 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081160" y="3276720"/>
            <a:ext cx="46641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Questions to be answered today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we get from the bases found in DNA to amino acid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we get from a bunch of amino acids to protei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odon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767880" y="1980720"/>
            <a:ext cx="3565800" cy="402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3 DNA bases pairs with 3 mRNA b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group of 3 mRNA bases encodes a single amino a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ade4"/>
                </a:solidFill>
                <a:latin typeface="Calibri"/>
              </a:rPr>
              <a:t>Cod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coding triplet of mRNA b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Content Placeholder 2" descr=""/>
          <p:cNvPicPr/>
          <p:nvPr/>
        </p:nvPicPr>
        <p:blipFill>
          <a:blip r:embed="rId1"/>
          <a:stretch/>
        </p:blipFill>
        <p:spPr>
          <a:xfrm>
            <a:off x="5105520" y="2084400"/>
            <a:ext cx="3332160" cy="43243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2"/>
          <a:stretch/>
        </p:blipFill>
        <p:spPr>
          <a:xfrm>
            <a:off x="1447920" y="4876920"/>
            <a:ext cx="18288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he Genetic Co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2286000" y="2084400"/>
            <a:ext cx="49417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Reading the Genetic Co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4917960" y="2476440"/>
            <a:ext cx="3997440" cy="32544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6"/>
          <p:cNvSpPr/>
          <p:nvPr/>
        </p:nvSpPr>
        <p:spPr>
          <a:xfrm>
            <a:off x="685800" y="190512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NA-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C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C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G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695160" y="4129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5b74"/>
                </a:solidFill>
                <a:latin typeface="Calibri"/>
                <a:ea typeface="Calibri"/>
              </a:rPr>
              <a:t>UG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1585800" y="4133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ade4"/>
                </a:solidFill>
                <a:latin typeface="Calibri"/>
                <a:ea typeface="Calibri"/>
              </a:rPr>
              <a:t>U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2433600" y="41450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ced7"/>
                </a:solidFill>
                <a:latin typeface="Calibri"/>
                <a:ea typeface="Calibri"/>
              </a:rPr>
              <a:t>GG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3352680" y="4114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  <a:ea typeface="Calibri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675720" y="327816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RNA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66720" y="497844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mino Acids-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Y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G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</a:rPr>
              <a:t>Transcription vs. Translation Review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7880" y="1905120"/>
            <a:ext cx="3565800" cy="8222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ade4"/>
                </a:solidFill>
                <a:latin typeface="Calibri"/>
              </a:rPr>
              <a:t>Tran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67880" y="2692440"/>
            <a:ext cx="3565800" cy="3341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cess by which genetic information encoded in DNA is copied onto messenger RN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ccurs in the nucleu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NA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mRN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92800" y="1905120"/>
            <a:ext cx="3565440" cy="8222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ade4"/>
                </a:solidFill>
                <a:latin typeface="Calibri"/>
              </a:rPr>
              <a:t>Trans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492800" y="2692440"/>
            <a:ext cx="3565440" cy="3341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cess by which information encoded in mRNA is used to assemble a protein at a ribosom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ccurs on a Ribosom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mRNA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protei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Line 5"/>
          <p:cNvSpPr/>
          <p:nvPr/>
        </p:nvSpPr>
        <p:spPr>
          <a:xfrm>
            <a:off x="5638680" y="5791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Line 7"/>
          <p:cNvSpPr/>
          <p:nvPr/>
        </p:nvSpPr>
        <p:spPr>
          <a:xfrm>
            <a:off x="1752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" descr=""/>
          <p:cNvPicPr/>
          <p:nvPr/>
        </p:nvPicPr>
        <p:blipFill>
          <a:blip r:embed="rId1"/>
          <a:stretch/>
        </p:blipFill>
        <p:spPr>
          <a:xfrm>
            <a:off x="768240" y="2666880"/>
            <a:ext cx="7632720" cy="2629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entral Dogma!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Video recap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cription and Translation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https://www.youtube.com/watch?v=h5mJbP23Buo&amp;list=PLwL0Myd7Dk1HK8gH2XIafNgQJD1dMX2aW&amp;index=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itle 1"/>
          <p:cNvSpPr/>
          <p:nvPr/>
        </p:nvSpPr>
        <p:spPr>
          <a:xfrm>
            <a:off x="762120" y="1447920"/>
            <a:ext cx="728964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0d0d"/>
                </a:solidFill>
                <a:latin typeface="Tw Cen MT Condensed"/>
              </a:rPr>
              <a:t>Kahoot!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0d0d"/>
                </a:solidFill>
                <a:latin typeface="Tw Cen MT Condensed"/>
              </a:rPr>
              <a:t>Type into the browser: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0d0d"/>
                </a:solidFill>
                <a:latin typeface="Tw Cen MT Condensed"/>
              </a:rPr>
              <a:t>kahoot.it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DNA Structure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435" name="Content Placeholder 3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4923000" cy="44798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767880" y="2286000"/>
            <a:ext cx="3565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main component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osph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gar (deoxyribo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trogenous base              (A, T, C, 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Replicati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68240" y="2107800"/>
            <a:ext cx="7290000" cy="40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DNA double helix unwin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DNA now single-strand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New DNA strand forms using complementary base pairing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246240" indent="-1267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(A-T, C-G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46240" indent="-1267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Used to prepare DNA for cell division (mitosi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Whole genome copied/replica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2666880" y="152280"/>
            <a:ext cx="7238880" cy="4114800"/>
            <a:chOff x="2666880" y="152280"/>
            <a:chExt cx="7238880" cy="4114800"/>
          </a:xfrm>
        </p:grpSpPr>
        <p:sp>
          <p:nvSpPr>
            <p:cNvPr id="440" name="AutoShape 4"/>
            <p:cNvSpPr/>
            <p:nvPr/>
          </p:nvSpPr>
          <p:spPr>
            <a:xfrm>
              <a:off x="2666880" y="152280"/>
              <a:ext cx="723888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_s57351"/>
            <p:cNvSpPr/>
            <p:nvPr/>
          </p:nvSpPr>
          <p:spPr>
            <a:xfrm>
              <a:off x="4114800" y="838080"/>
              <a:ext cx="4343400" cy="862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w Cen MT"/>
                </a:rPr>
                <a:t>DNA</a:t>
              </a:r>
              <a:endParaRPr b="0" lang="en-US" sz="2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8"/>
            <p:cNvSpPr/>
            <p:nvPr/>
          </p:nvSpPr>
          <p:spPr>
            <a:xfrm>
              <a:off x="4857480" y="814320"/>
              <a:ext cx="1079640" cy="1243080"/>
            </a:xfrm>
            <a:custGeom>
              <a:avLst/>
              <a:gdLst/>
              <a:ahLst/>
              <a:rect l="l" t="t" r="r" b="b"/>
              <a:pathLst>
                <a:path w="680" h="784">
                  <a:moveTo>
                    <a:pt x="680" y="480"/>
                  </a:moveTo>
                  <a:cubicBezTo>
                    <a:pt x="652" y="580"/>
                    <a:pt x="624" y="680"/>
                    <a:pt x="536" y="720"/>
                  </a:cubicBezTo>
                  <a:cubicBezTo>
                    <a:pt x="448" y="760"/>
                    <a:pt x="240" y="784"/>
                    <a:pt x="152" y="720"/>
                  </a:cubicBezTo>
                  <a:cubicBezTo>
                    <a:pt x="64" y="656"/>
                    <a:pt x="0" y="448"/>
                    <a:pt x="8" y="336"/>
                  </a:cubicBezTo>
                  <a:cubicBezTo>
                    <a:pt x="16" y="224"/>
                    <a:pt x="128" y="96"/>
                    <a:pt x="200" y="48"/>
                  </a:cubicBezTo>
                  <a:cubicBezTo>
                    <a:pt x="272" y="0"/>
                    <a:pt x="368" y="32"/>
                    <a:pt x="440" y="48"/>
                  </a:cubicBezTo>
                  <a:cubicBezTo>
                    <a:pt x="512" y="64"/>
                    <a:pt x="572" y="104"/>
                    <a:pt x="632" y="1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DNA Replication: Semi-conservativ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444" name="Content Placeholder 3" descr=""/>
          <p:cNvPicPr/>
          <p:nvPr/>
        </p:nvPicPr>
        <p:blipFill>
          <a:blip r:embed="rId1"/>
          <a:stretch/>
        </p:blipFill>
        <p:spPr>
          <a:xfrm>
            <a:off x="1984320" y="2286000"/>
            <a:ext cx="48578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he Central dog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pSp>
        <p:nvGrpSpPr>
          <p:cNvPr id="446" name="Group 17"/>
          <p:cNvGrpSpPr/>
          <p:nvPr/>
        </p:nvGrpSpPr>
        <p:grpSpPr>
          <a:xfrm>
            <a:off x="1600200" y="2057400"/>
            <a:ext cx="5865840" cy="4266360"/>
            <a:chOff x="1600200" y="2057400"/>
            <a:chExt cx="5865840" cy="4266360"/>
          </a:xfrm>
        </p:grpSpPr>
        <p:grpSp>
          <p:nvGrpSpPr>
            <p:cNvPr id="447" name="Group 6"/>
            <p:cNvGrpSpPr/>
            <p:nvPr/>
          </p:nvGrpSpPr>
          <p:grpSpPr>
            <a:xfrm>
              <a:off x="1600200" y="2057400"/>
              <a:ext cx="5865840" cy="4266360"/>
              <a:chOff x="1600200" y="2057400"/>
              <a:chExt cx="5865840" cy="4266360"/>
            </a:xfrm>
          </p:grpSpPr>
          <p:sp>
            <p:nvSpPr>
              <p:cNvPr id="448" name="AutoShape 5"/>
              <p:cNvSpPr/>
              <p:nvPr/>
            </p:nvSpPr>
            <p:spPr>
              <a:xfrm>
                <a:off x="1600200" y="2057400"/>
                <a:ext cx="5865840" cy="426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449" name="_s47119"/>
              <p:cNvCxnSpPr/>
              <p:nvPr/>
            </p:nvCxnSpPr>
            <p:spPr>
              <a:xfrm flipV="1">
                <a:off x="4526640" y="4726440"/>
                <a:ext cx="6840" cy="533880"/>
              </a:xfrm>
              <a:prstGeom prst="straightConnector1">
                <a:avLst/>
              </a:prstGeom>
              <a:ln w="15840">
                <a:solidFill>
                  <a:srgbClr val="2683c6"/>
                </a:solidFill>
                <a:miter/>
              </a:ln>
            </p:spPr>
          </p:cxnSp>
          <p:cxnSp>
            <p:nvCxnSpPr>
              <p:cNvPr id="450" name="_s47116"/>
              <p:cNvCxnSpPr/>
              <p:nvPr/>
            </p:nvCxnSpPr>
            <p:spPr>
              <a:xfrm flipV="1">
                <a:off x="4526640" y="3126600"/>
                <a:ext cx="6840" cy="533880"/>
              </a:xfrm>
              <a:prstGeom prst="straightConnector1">
                <a:avLst/>
              </a:prstGeom>
              <a:ln w="15840">
                <a:solidFill>
                  <a:srgbClr val="2683c6"/>
                </a:solidFill>
                <a:miter/>
              </a:ln>
            </p:spPr>
          </p:cxnSp>
          <p:sp>
            <p:nvSpPr>
              <p:cNvPr id="451" name="_s47111"/>
              <p:cNvSpPr/>
              <p:nvPr/>
            </p:nvSpPr>
            <p:spPr>
              <a:xfrm>
                <a:off x="1600200" y="2057400"/>
                <a:ext cx="5865840" cy="1066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5840">
                <a:solidFill>
                  <a:srgbClr val="2683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DNA</a:t>
                </a:r>
                <a:endParaRPr b="0" lang="en-US" sz="5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2" name="_s47113"/>
              <p:cNvSpPr/>
              <p:nvPr/>
            </p:nvSpPr>
            <p:spPr>
              <a:xfrm>
                <a:off x="1600200" y="3657240"/>
                <a:ext cx="5865840" cy="1066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5840">
                <a:solidFill>
                  <a:srgbClr val="2683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RNA</a:t>
                </a:r>
                <a:endParaRPr b="0" lang="en-US" sz="5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3" name="_s47118"/>
              <p:cNvSpPr/>
              <p:nvPr/>
            </p:nvSpPr>
            <p:spPr>
              <a:xfrm>
                <a:off x="1600200" y="5257080"/>
                <a:ext cx="5865840" cy="1066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5840">
                <a:solidFill>
                  <a:srgbClr val="2683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rotein</a:t>
                </a:r>
                <a:endParaRPr b="0" lang="en-US" sz="5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4" name="Line 16"/>
            <p:cNvSpPr/>
            <p:nvPr/>
          </p:nvSpPr>
          <p:spPr>
            <a:xfrm>
              <a:off x="4537080" y="3165480"/>
              <a:ext cx="0" cy="474480"/>
            </a:xfrm>
            <a:prstGeom prst="line">
              <a:avLst/>
            </a:prstGeom>
            <a:ln w="15840">
              <a:solidFill>
                <a:srgbClr val="2683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5" name="Line 17"/>
            <p:cNvSpPr/>
            <p:nvPr/>
          </p:nvSpPr>
          <p:spPr>
            <a:xfrm>
              <a:off x="4537080" y="4745160"/>
              <a:ext cx="0" cy="554040"/>
            </a:xfrm>
            <a:prstGeom prst="line">
              <a:avLst/>
            </a:prstGeom>
            <a:ln w="15840">
              <a:solidFill>
                <a:srgbClr val="2683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6" name="Text Box 18"/>
            <p:cNvSpPr/>
            <p:nvPr/>
          </p:nvSpPr>
          <p:spPr>
            <a:xfrm>
              <a:off x="4906800" y="3136680"/>
              <a:ext cx="2531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Transcriptio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Text Box 19"/>
            <p:cNvSpPr/>
            <p:nvPr/>
          </p:nvSpPr>
          <p:spPr>
            <a:xfrm>
              <a:off x="4968720" y="4795920"/>
              <a:ext cx="2284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Translatio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DNA Vs. RN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7880" y="1905120"/>
            <a:ext cx="3565800" cy="8222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ade4"/>
                </a:solidFill>
                <a:latin typeface="Calibri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67880" y="2743200"/>
            <a:ext cx="3565800" cy="3341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stra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oxyribose sug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s: C,G A,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92800" y="1905120"/>
            <a:ext cx="3565440" cy="8222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ade4"/>
                </a:solidFill>
                <a:latin typeface="Calibri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492800" y="2743200"/>
            <a:ext cx="3565440" cy="3341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tra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se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s: C,G,A,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762120" y="49528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o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ta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a sugar, phosphate, and ba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DNA Vs. RN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465" name="Content Placeholder 7" descr=""/>
          <p:cNvPicPr/>
          <p:nvPr/>
        </p:nvPicPr>
        <p:blipFill>
          <a:blip r:embed="rId1"/>
          <a:stretch/>
        </p:blipFill>
        <p:spPr>
          <a:xfrm>
            <a:off x="1849320" y="2021040"/>
            <a:ext cx="546588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Video Recap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NA Replication: </a:t>
            </a:r>
            <a:r>
              <a:rPr b="0" lang="en-US" sz="20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https://www.youtube.com/watch?v=5qSrmeiWsuc&amp;list=PLwL0Myd7Dk1HK8gH2XIafNgQJD1dMX2aW&amp;index=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NA and RNA Structure: </a:t>
            </a:r>
            <a:r>
              <a:rPr b="0" lang="en-US" sz="2000" spc="-1" strike="noStrike" u="sng">
                <a:solidFill>
                  <a:srgbClr val="6b9f25"/>
                </a:solidFill>
                <a:uFillTx/>
                <a:latin typeface="Calibri"/>
                <a:hlinkClick r:id="rId2"/>
              </a:rPr>
              <a:t>https://www.youtube.com/watch?v=0Elo-zX1k8M&amp;list=PLwL0Myd7Dk1HK8gH2XIafNgQJD1dMX2aW&amp;index=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9T02:52:23Z</dcterms:created>
  <dc:creator>Microsoft Office User</dc:creator>
  <dc:description/>
  <dc:language>en-US</dc:language>
  <cp:lastModifiedBy>James M Dixon</cp:lastModifiedBy>
  <dcterms:modified xsi:type="dcterms:W3CDTF">2016-07-14T17:38:47Z</dcterms:modified>
  <cp:revision>3</cp:revision>
  <dc:subject/>
  <dc:title>Protein Synthesis</dc:title>
</cp:coreProperties>
</file>